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2D4CEDC-D431-4389-BFDE-5857AD22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17BC9E-0BBC-4A2D-A8A1-337BD7AC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with pho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6F171BE-B1DB-4AB1-8CC7-6A3FFE92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CEC-318F-47F0-9F1A-7F3E47A7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E3C-6CB2-42E9-A3E3-03AF81E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771-97B3-42DF-945F-839D6DAF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159-220B-4FAC-BD93-DD606665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E2E3-2481-4633-BF3B-FF4CA900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8F14-D7D2-4651-8186-C7784F1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62C0-6E86-49A0-901C-E7B2F1E3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FDF-D488-4357-8895-DAF4D50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6260-74CC-4955-9D76-D1802C6A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5D9-DFCB-4DF3-A011-C585F6D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ACD-4FF1-4229-B490-1ECA083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BD8-FF8B-4E20-974B-1965707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0D4-684F-434A-AE77-16098D4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70ED-94C4-40AF-9A16-E72EEBB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95C0-C880-4793-AA93-C1F21980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7CA-89B9-4AB9-94D7-2AE015BD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45CA-5FF6-4DAB-83ED-6BE59F0E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BED9-949E-4407-B4EE-9874C8CC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809A-03F4-483E-8C5F-FCD9193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2503-80A4-447C-8CCF-72EBD06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89B9-FB38-4260-9D3B-90CFF0B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0F59-EEAD-412C-A3E0-15AB954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C53-6696-474F-832D-7D3750BE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3089-DAD5-48A5-8C74-C26C895F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C5B6-B688-47AB-BC0E-440E48D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CE94-FD02-4CA6-A7EE-C278EC8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9EA7-096E-46CE-932D-5FB9FD4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BED6-3B32-4114-B178-020254F1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28DD-D2E1-4437-809A-815BC0C1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0629-47F3-4D35-863A-5990ACBD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35C-F9E5-402B-BC46-B41AA4E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0CA-EE6D-4F0F-99D4-CE1D2EB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920" y="-360"/>
            <a:ext cx="75708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4AE-1404-4E20-8186-3EC0F2B9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2BF-27F9-45AE-AAE2-19DF418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E06-C433-42DD-8966-2DB8A22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B0F-3986-4028-BB49-5C8EA81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3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BBA-2FD2-42D4-83BB-26A0A6ED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89728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twtlogo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971640" y="836640"/>
            <a:ext cx="7129440" cy="144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4E8B-5EB9-457B-B5C0-C28D8A6DD0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289728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twtlogo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971640" y="836640"/>
            <a:ext cx="7129440" cy="144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3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F86B-36EC-42B7-80FE-113FC136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zhang@shao.ac.c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285840" y="1647720"/>
            <a:ext cx="83581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39640" y="5889600"/>
            <a:ext cx="81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rd International VLBI Technology Workshop , J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0-14 Nov.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285840" y="113184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Development of Broadband VLBI Technologies in 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55640" y="4076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iuzhong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zhang@shao.ac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hanghai Astronomical Observatory,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553D-C038-4A15-8096-AE5EC9F9B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4" descr=""/>
          <p:cNvPicPr/>
          <p:nvPr/>
        </p:nvPicPr>
        <p:blipFill>
          <a:blip r:embed="rId1"/>
          <a:stretch/>
        </p:blipFill>
        <p:spPr>
          <a:xfrm>
            <a:off x="792000" y="1052640"/>
            <a:ext cx="6875640" cy="5157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116000" y="1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DAS-2 in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971640" y="63691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am Leader: Zhu Run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4105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K6 Disk Arra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5A0-BF86-4DEE-B388-10F6301F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" descr=""/>
          <p:cNvPicPr/>
          <p:nvPr/>
        </p:nvPicPr>
        <p:blipFill>
          <a:blip r:embed="rId1"/>
          <a:stretch/>
        </p:blipFill>
        <p:spPr>
          <a:xfrm>
            <a:off x="250920" y="1187280"/>
            <a:ext cx="3919320" cy="52246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4572000" y="1268280"/>
            <a:ext cx="439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wo set MK6 system are already arrive in Shang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oing test with CDAS-2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12600"/>
            <a:ext cx="6337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alibration and time Syst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cal, Tcal and Dcal are in developing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ime/Frequency: shared with current syste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eorological system: shared with current syste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E69-EAD7-4165-91B1-D1F507236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in Specifications of Antenna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ameter: 13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F frequency range: 2-14GHz, upgradable to Ka band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larization:  Linear polariz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ptics: Ring focu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perture efficiency:  &gt;50%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rface accuracy: &lt;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ing accurac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&lt;18”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lew rate: az 12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, 3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;  el 6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, 3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s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lew range: az -27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~+27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; el 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~90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ference point stability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l path length stability: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.3m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20A-CF75-4860-B970-061D7147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g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佘山VLBI2010天线效果图.jpg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91E-5829-45FE-81DE-6473B85B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324000" y="4797360"/>
            <a:ext cx="3887640" cy="825480"/>
          </a:xfrm>
          <a:prstGeom prst="rect">
            <a:avLst/>
          </a:prstGeom>
          <a:noFill/>
          <a:ln w="1260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ject Lea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. Wang Guang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3"/>
          <p:cNvCxnSpPr>
            <a:stCxn id="194" idx="0"/>
          </p:cNvCxnSpPr>
          <p:nvPr/>
        </p:nvCxnSpPr>
        <p:spPr>
          <a:xfrm flipV="1">
            <a:off x="2268360" y="3334680"/>
            <a:ext cx="1728000" cy="14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0C1-FD8B-491F-B912-A470806E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324000" y="12682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re are two companies are interest to help us to develop VGOS anten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oth of these two companies have capacity to develop VGOS ante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HAO should select one of them and sign antenna contract in near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1342440" y="1159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nt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6160" y="115920"/>
            <a:ext cx="6189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FI Measurements at Sheshan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内容占位符 3" descr=""/>
          <p:cNvPicPr/>
          <p:nvPr/>
        </p:nvPicPr>
        <p:blipFill>
          <a:blip r:embed="rId1"/>
          <a:stretch/>
        </p:blipFill>
        <p:spPr>
          <a:xfrm>
            <a:off x="-25560" y="981000"/>
            <a:ext cx="9169560" cy="5869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7403760" y="486900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1-2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8BB-AC29-4672-8673-717DE811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内容占位符 3" descr=""/>
          <p:cNvPicPr/>
          <p:nvPr/>
        </p:nvPicPr>
        <p:blipFill>
          <a:blip r:embed="rId1"/>
          <a:stretch/>
        </p:blipFill>
        <p:spPr>
          <a:xfrm>
            <a:off x="3492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6932160" y="587700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2-4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788D-32AF-4301-B996-4D2BC4C8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8" name="内容占位符 3" descr=""/>
          <p:cNvPicPr/>
          <p:nvPr/>
        </p:nvPicPr>
        <p:blipFill>
          <a:blip r:embed="rId1"/>
          <a:stretch/>
        </p:blipFill>
        <p:spPr>
          <a:xfrm>
            <a:off x="-27000" y="0"/>
            <a:ext cx="76233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5347080" y="3357720"/>
            <a:ext cx="17564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4-8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4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7524720" cy="4897440"/>
          </a:xfrm>
          <a:prstGeom prst="rect">
            <a:avLst/>
          </a:prstGeom>
          <a:ln w="0">
            <a:noFill/>
          </a:ln>
        </p:spPr>
      </p:pic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E7B-EB59-4D35-98F5-153A7E4B9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776640" y="5835600"/>
            <a:ext cx="20109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8-12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4360" y="1483920"/>
            <a:ext cx="7914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RFI occurs in S-band. It is difficult to use continues broadband at S-band for VLBI observations.  The Superconducting Filter is planned to use for the reduction of the RFI effects.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EC3C-898E-482B-8C3D-DB0A1545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llowing VLBI 2010 project, SHAO started to study broadband VLBI tech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re are several groups working on the broadband VLBI tech. in SHAO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fter long time discussion, SHAO decided to build a VGOS station by self-raised funds at Sheshan, near Shanghai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s decision push SHAO engineers to work on the broadband VLBI tech.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4E69-9B44-4F01-B606-9E84A1D3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834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ome Words for Correlator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252360" y="1550880"/>
            <a:ext cx="871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latform Selec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ftware, PC based, GPU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re power consump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high speed inter-connec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etween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ardware, FPGA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long time to develop the 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ed more libraries to reduce the develop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ybrid, FPGA used as HPC, others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 so more power 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duce the developing tim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"/>
          <p:cNvSpPr/>
          <p:nvPr/>
        </p:nvSpPr>
        <p:spPr>
          <a:xfrm>
            <a:off x="324000" y="1052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way to develop the Correlat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042920" y="1699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brid, FPGA used as HPC, others with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79280" y="1108080"/>
            <a:ext cx="84013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570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orrelator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6CA-2CE1-4483-B795-F5DB1CF8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5" descr=""/>
          <p:cNvPicPr/>
          <p:nvPr/>
        </p:nvPicPr>
        <p:blipFill>
          <a:blip r:embed="rId1"/>
          <a:stretch/>
        </p:blipFill>
        <p:spPr>
          <a:xfrm>
            <a:off x="415800" y="1197000"/>
            <a:ext cx="3778200" cy="5038560"/>
          </a:xfrm>
          <a:prstGeom prst="rect">
            <a:avLst/>
          </a:prstGeom>
          <a:ln w="0">
            <a:noFill/>
          </a:ln>
        </p:spPr>
      </p:pic>
      <p:sp>
        <p:nvSpPr>
          <p:cNvPr id="224" name="椭圆 6"/>
          <p:cNvSpPr/>
          <p:nvPr/>
        </p:nvSpPr>
        <p:spPr>
          <a:xfrm>
            <a:off x="1187280" y="5229360"/>
            <a:ext cx="2160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接箭头连接符 8"/>
          <p:cNvCxnSpPr/>
          <p:nvPr/>
        </p:nvCxnSpPr>
        <p:spPr>
          <a:xfrm flipH="1" flipV="1">
            <a:off x="2785680" y="2741040"/>
            <a:ext cx="2247120" cy="18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直接箭头连接符 9"/>
          <p:cNvCxnSpPr/>
          <p:nvPr/>
        </p:nvCxnSpPr>
        <p:spPr>
          <a:xfrm flipH="1" flipV="1">
            <a:off x="2842560" y="1988640"/>
            <a:ext cx="2189880" cy="93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直接箭头连接符 12"/>
          <p:cNvCxnSpPr/>
          <p:nvPr/>
        </p:nvCxnSpPr>
        <p:spPr>
          <a:xfrm flipH="1">
            <a:off x="2842560" y="2923920"/>
            <a:ext cx="2189880" cy="158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8" name="直接箭头连接符 13"/>
          <p:cNvCxnSpPr/>
          <p:nvPr/>
        </p:nvCxnSpPr>
        <p:spPr>
          <a:xfrm flipH="1">
            <a:off x="2700000" y="2944800"/>
            <a:ext cx="233280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9" name="直接箭头连接符 19"/>
          <p:cNvCxnSpPr/>
          <p:nvPr/>
        </p:nvCxnSpPr>
        <p:spPr>
          <a:xfrm flipH="1">
            <a:off x="3099600" y="1520640"/>
            <a:ext cx="16326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0" name="直接箭头连接符 21"/>
          <p:cNvCxnSpPr>
            <a:stCxn id="231" idx="1"/>
            <a:endCxn id="224" idx="6"/>
          </p:cNvCxnSpPr>
          <p:nvPr/>
        </p:nvCxnSpPr>
        <p:spPr>
          <a:xfrm flipH="1">
            <a:off x="3347280" y="4874760"/>
            <a:ext cx="1384920" cy="89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2" name="TextBox 1"/>
          <p:cNvSpPr/>
          <p:nvPr/>
        </p:nvSpPr>
        <p:spPr>
          <a:xfrm>
            <a:off x="4788000" y="1341360"/>
            <a:ext cx="223200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ystem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016600" y="2749680"/>
            <a:ext cx="292392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ta Buffer (Play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2200" y="4691160"/>
            <a:ext cx="3024360" cy="368280"/>
          </a:xfrm>
          <a:prstGeom prst="rect">
            <a:avLst/>
          </a:prstGeom>
          <a:noFill/>
          <a:ln w="19080">
            <a:solidFill>
              <a:srgbClr val="30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iBoard &amp; Pow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826920" y="6381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am Leader: Xu Zhij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4750920" y="33210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in Spec. (one Uniboar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 Stations, 2Gbps/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4511520" y="5589720"/>
            <a:ext cx="44532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ny thanks for the helps of JIVE and ASTRON UniBoard te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0C9-48E0-428F-A703-1224792E3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187280" y="1159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250920" y="98100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electronics part of Sheshan VGOS station will be completed in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gn Antenna contract as soon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ryogenic Receiver design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Improve th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rformance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of UDC and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Broadband test observation with current big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Study of the structure of the 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2565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cc"/>
                </a:solidFill>
                <a:latin typeface="Arial"/>
                <a:ea typeface="黑体"/>
              </a:rPr>
              <a:t>Thanks!</a:t>
            </a:r>
            <a:endParaRPr b="1" lang="en-US" sz="5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7B1-5085-4398-8FF2-D09CB27E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2843280" y="6227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0000"/>
                </a:solidFill>
                <a:latin typeface="Arial"/>
              </a:rPr>
              <a:t>Talk of Bill Petrachen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5F8-1574-4AB9-ADD1-E8763FB7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2771640" y="6443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0000"/>
                </a:solidFill>
                <a:latin typeface="Arial"/>
              </a:rPr>
              <a:t>Talk of Bill Petrachen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122640" cy="4753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475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ryogenic Front End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295280"/>
            <a:ext cx="773280" cy="2613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RF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38200" y="4149720"/>
            <a:ext cx="990720" cy="4287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 Noise Amplif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9024-C972-4249-951B-7278D9AA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3924360" y="1425600"/>
            <a:ext cx="5040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e set QRFH and LNA from Cal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gn and develop Cryogenic system with cooperation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udy the measurement methods of performance of broadband cryogenic rece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71280"/>
            <a:ext cx="7058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p Down Converter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内容占位符 3" descr=""/>
          <p:cNvPicPr/>
          <p:nvPr/>
        </p:nvPicPr>
        <p:blipFill>
          <a:blip r:embed="rId1"/>
          <a:stretch/>
        </p:blipFill>
        <p:spPr>
          <a:xfrm>
            <a:off x="117360" y="1003320"/>
            <a:ext cx="4105440" cy="4370400"/>
          </a:xfrm>
          <a:prstGeom prst="rect">
            <a:avLst/>
          </a:prstGeom>
          <a:ln w="0">
            <a:noFill/>
          </a:ln>
        </p:spPr>
      </p:pic>
      <p:sp>
        <p:nvSpPr>
          <p:cNvPr id="158" name="椭圆 5"/>
          <p:cNvSpPr/>
          <p:nvPr/>
        </p:nvSpPr>
        <p:spPr>
          <a:xfrm>
            <a:off x="539640" y="2131920"/>
            <a:ext cx="3240360" cy="79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AC5A-5562-4B17-89A1-5A8F7DFDB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211640" y="1125360"/>
            <a:ext cx="468144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y companies are interest to help us to develop UDC for our VGOS s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in specifi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Input :  2 – 14GHz  (with linear polariz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Output: 512~1024 / 70 ~ 1024MHz selec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Programmable with 0.1 MHz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箭头连接符 2"/>
          <p:cNvCxnSpPr/>
          <p:nvPr/>
        </p:nvCxnSpPr>
        <p:spPr>
          <a:xfrm flipH="1" flipV="1">
            <a:off x="2375640" y="2923560"/>
            <a:ext cx="683640" cy="3097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TextBox 8"/>
          <p:cNvSpPr/>
          <p:nvPr/>
        </p:nvSpPr>
        <p:spPr>
          <a:xfrm>
            <a:off x="900000" y="6165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totype System of U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E122-520D-4322-9E2A-93A2E73A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2013-07-25 14.34.05.jpg"/>
          <p:cNvPicPr/>
          <p:nvPr/>
        </p:nvPicPr>
        <p:blipFill>
          <a:blip r:embed="rId1"/>
          <a:stretch/>
        </p:blipFill>
        <p:spPr>
          <a:xfrm>
            <a:off x="611280" y="1197000"/>
            <a:ext cx="2523960" cy="17812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" descr=""/>
          <p:cNvPicPr/>
          <p:nvPr/>
        </p:nvPicPr>
        <p:blipFill>
          <a:blip r:embed="rId2"/>
          <a:stretch/>
        </p:blipFill>
        <p:spPr>
          <a:xfrm>
            <a:off x="598320" y="3141720"/>
            <a:ext cx="2533680" cy="14382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635280" y="1135800"/>
            <a:ext cx="5205600" cy="210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new platform, CDAS2 with PFB (Poly-phase Filter Bank) algorithm is under testing. Now it can work in two mo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12 MHz Dual IF M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ach IF, it 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12 MHz bandwidth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 channe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2 MHz bandwidth for each output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24 MHz Single IF Mod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24 MHz bandwidth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 channe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4 MHz bandwidth for each output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7" descr="zhu03.png"/>
          <p:cNvPicPr/>
          <p:nvPr/>
        </p:nvPicPr>
        <p:blipFill>
          <a:blip r:embed="rId3"/>
          <a:stretch/>
        </p:blipFill>
        <p:spPr>
          <a:xfrm>
            <a:off x="108000" y="4724280"/>
            <a:ext cx="4314600" cy="2044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zhu04.png"/>
          <p:cNvPicPr/>
          <p:nvPr/>
        </p:nvPicPr>
        <p:blipFill>
          <a:blip r:embed="rId4"/>
          <a:stretch/>
        </p:blipFill>
        <p:spPr>
          <a:xfrm>
            <a:off x="3708360" y="3573360"/>
            <a:ext cx="5273640" cy="3046680"/>
          </a:xfrm>
          <a:prstGeom prst="rect">
            <a:avLst/>
          </a:prstGeom>
          <a:ln w="0">
            <a:noFill/>
          </a:ln>
        </p:spPr>
      </p:pic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288F-1307-47EE-AF86-485F44700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71280"/>
            <a:ext cx="4105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DAS-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6062760" cy="31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108000" y="3213000"/>
            <a:ext cx="5759280" cy="3138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5940360" y="-27000"/>
            <a:ext cx="3168720" cy="8597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test and real  obser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H25M and TM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test observation in July to check functions of CD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(@ X band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39.25        10.0J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02+490        0.27 J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R (Int. Time 2.048 s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.2 for 0902+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2.6 for 4C39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1F5-18CB-482C-902C-19F260C8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08:06:03Z</dcterms:created>
  <dc:creator>Zhangxiuzhong</dc:creator>
  <dc:description/>
  <dc:language>en-US</dc:language>
  <cp:lastModifiedBy>Xiuzhong Zhang</cp:lastModifiedBy>
  <cp:lastPrinted>2002-02-16T14:40:26Z</cp:lastPrinted>
  <dcterms:modified xsi:type="dcterms:W3CDTF">2014-11-10T08:23:53Z</dcterms:modified>
  <cp:revision>915</cp:revision>
  <dc:subject/>
  <dc:title>没有幻灯片标题</dc:title>
</cp:coreProperties>
</file>